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wmf" ContentType="image/x-wmf"/>
  <Override PartName="/ppt/media/image4.png" ContentType="image/png"/>
  <Override PartName="/ppt/media/image7.jpeg" ContentType="image/jpeg"/>
  <Override PartName="/ppt/media/image9.png" ContentType="image/png"/>
  <Override PartName="/ppt/media/image10.jpeg" ContentType="image/jpeg"/>
  <Override PartName="/ppt/media/image13.wmf" ContentType="image/x-wmf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E39A-B90E-4E54-858B-3BA00C9B8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3CEA-AFCF-4E43-8C84-6F82EBD22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CD74-A037-41CA-8406-F30EC221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2298-8B8F-4719-BBC4-83ADC14E7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3866-18A4-46EB-A07B-E46C9323B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D34F-8DD0-4ED6-B3FD-59847C90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B5BC-726B-4F48-AEF6-F5AA5C4E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38C8-7357-481A-B71E-F254C770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D9DB-EE3C-42AB-9FA4-119C90B5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4ED6-6653-4BFD-9B49-41B22A54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136F-F4F8-4C56-A98E-1789D773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7409-A295-471C-BFDD-64E69418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AC49-1A70-40A3-9DA0-126402F6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8351-FC6D-4205-B7CF-111DDE2B3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oleObject" Target="../embeddings/oleObject1.bin"/><Relationship Id="rId9" Type="http://schemas.openxmlformats.org/officeDocument/2006/relationships/image" Target="../media/image3.png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3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3.png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3.png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3.png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3.png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3.png"/><Relationship Id="rId22" Type="http://schemas.openxmlformats.org/officeDocument/2006/relationships/oleObject" Target="../embeddings/oleObject8.bin"/><Relationship Id="rId23" Type="http://schemas.openxmlformats.org/officeDocument/2006/relationships/image" Target="../media/image3.png"/><Relationship Id="rId24" Type="http://schemas.openxmlformats.org/officeDocument/2006/relationships/image" Target="../media/image2.jpeg"/><Relationship Id="rId25" Type="http://schemas.openxmlformats.org/officeDocument/2006/relationships/image" Target="../media/image2.jpeg"/><Relationship Id="rId26" Type="http://schemas.openxmlformats.org/officeDocument/2006/relationships/image" Target="../media/image2.jpeg"/><Relationship Id="rId27" Type="http://schemas.openxmlformats.org/officeDocument/2006/relationships/image" Target="../media/image2.jpeg"/><Relationship Id="rId28" Type="http://schemas.openxmlformats.org/officeDocument/2006/relationships/image" Target="../media/image2.jpeg"/><Relationship Id="rId29" Type="http://schemas.openxmlformats.org/officeDocument/2006/relationships/image" Target="../media/image2.jpeg"/><Relationship Id="rId30" Type="http://schemas.openxmlformats.org/officeDocument/2006/relationships/oleObject" Target="../embeddings/oleObject9.bin"/><Relationship Id="rId31" Type="http://schemas.openxmlformats.org/officeDocument/2006/relationships/image" Target="../media/image3.png"/><Relationship Id="rId32" Type="http://schemas.openxmlformats.org/officeDocument/2006/relationships/oleObject" Target="../embeddings/oleObject10.bin"/><Relationship Id="rId33" Type="http://schemas.openxmlformats.org/officeDocument/2006/relationships/image" Target="../media/image3.png"/><Relationship Id="rId3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acmemarkets.com/eCommerceWeb/LandingPageAction.do?action=begin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hyperlink" Target="http://blog.kir.com/archives/7-11.jpg" TargetMode="External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2041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2041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1905120"/>
            <a:ext cx="4572000" cy="2041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572000" y="1905120"/>
            <a:ext cx="4572000" cy="2041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0" y="3809880"/>
            <a:ext cx="4572000" cy="2041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4572000" y="3809880"/>
            <a:ext cx="4572000" cy="2041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0" y="5638680"/>
            <a:ext cx="4572000" cy="2041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4572000" y="5638680"/>
            <a:ext cx="45720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1 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V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a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r 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S</a:t>
            </a: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t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a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t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066680"/>
            <a:ext cx="9144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x = 59.42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cc0000"/>
                </a:solidFill>
                <a:latin typeface="Tahoma"/>
              </a:rPr>
              <a:t>Σ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x = 20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cc0000"/>
                </a:solidFill>
                <a:latin typeface="Tahoma"/>
              </a:rPr>
              <a:t>Σ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x² = 124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Sx = 3.82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  <a:ea typeface="Times New Roman"/>
              </a:rPr>
              <a:t>n =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  <a:ea typeface="Times New Roman"/>
              </a:rPr>
              <a:t>Minimum = 5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  <a:ea typeface="Times New Roman"/>
              </a:rPr>
              <a:t>Quartile 1 = 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  <a:ea typeface="Times New Roman"/>
              </a:rPr>
              <a:t>Median = 5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  <a:ea typeface="Times New Roman"/>
              </a:rPr>
              <a:t>Quartile 3 = 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  <a:ea typeface="Times New Roman"/>
              </a:rPr>
              <a:t>Maximum = 68 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320" y="114300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A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s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s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u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m</a:t>
            </a: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p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t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i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o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n</a:t>
            </a: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676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828800"/>
            <a:ext cx="9144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1). SRS                          1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2). Normal Population      2). 35 </a:t>
            </a:r>
            <a:r>
              <a:rPr b="1" lang="en-US" sz="3600" spc="-1" strike="noStrike">
                <a:solidFill>
                  <a:srgbClr val="cc0000"/>
                </a:solidFill>
                <a:latin typeface="Tahoma"/>
                <a:ea typeface="Times New Roman"/>
              </a:rPr>
              <a:t>≥</a:t>
            </a:r>
            <a:r>
              <a:rPr b="0" lang="en-US" sz="3600" spc="-1" strike="noStrike">
                <a:solidFill>
                  <a:srgbClr val="cc0000"/>
                </a:solidFill>
                <a:latin typeface="Tahoma"/>
                <a:ea typeface="Times New Roman"/>
              </a:rPr>
              <a:t> 30</a:t>
            </a: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             </a:t>
            </a: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           </a:t>
            </a: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n</a:t>
            </a:r>
            <a:r>
              <a:rPr b="1" lang="en-US" sz="36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Tahoma"/>
                <a:ea typeface="Times New Roman"/>
              </a:rPr>
              <a:t>≥</a:t>
            </a:r>
            <a:r>
              <a:rPr b="0" lang="en-US" sz="3600" spc="-1" strike="noStrike">
                <a:solidFill>
                  <a:srgbClr val="cc0000"/>
                </a:solidFill>
                <a:latin typeface="Tahoma"/>
                <a:ea typeface="Times New Roman"/>
              </a:rPr>
              <a:t> 30</a:t>
            </a: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19920" y="1447920"/>
            <a:ext cx="1447560" cy="10681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696080" y="2209680"/>
            <a:ext cx="1447920" cy="10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H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y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p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o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h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e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s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i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228600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Tahoma"/>
              </a:rPr>
              <a:t>-Ho: </a:t>
            </a:r>
            <a:r>
              <a:rPr b="1" lang="en-US" sz="3600" spc="-1" strike="noStrike">
                <a:solidFill>
                  <a:srgbClr val="cc0000"/>
                </a:solidFill>
                <a:latin typeface="Symbol"/>
                <a:ea typeface="Symbol"/>
              </a:rPr>
              <a:t></a:t>
            </a:r>
            <a:r>
              <a:rPr b="1" lang="en-US" sz="3600" spc="-1" strike="noStrike">
                <a:solidFill>
                  <a:srgbClr val="cc0000"/>
                </a:solidFill>
                <a:latin typeface="Tahoma"/>
                <a:ea typeface="Times New Roman"/>
              </a:rPr>
              <a:t>= 60 Skittles per 2.17 oz. Bag</a:t>
            </a:r>
            <a:r>
              <a:rPr b="1" lang="en-US" sz="36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ahoma"/>
              </a:rPr>
              <a:t>-Ha: </a:t>
            </a:r>
            <a:r>
              <a:rPr b="1" lang="en-US" sz="3600" spc="-1" strike="noStrike">
                <a:solidFill>
                  <a:srgbClr val="cc0000"/>
                </a:solidFill>
                <a:latin typeface="Symbol"/>
                <a:ea typeface="Symbol"/>
              </a:rPr>
              <a:t></a:t>
            </a:r>
            <a:r>
              <a:rPr b="1" lang="en-US" sz="3600" spc="-1" strike="noStrike">
                <a:solidFill>
                  <a:srgbClr val="cc0000"/>
                </a:solidFill>
                <a:latin typeface="Tahoma"/>
                <a:ea typeface="Times New Roman"/>
              </a:rPr>
              <a:t> ≠ 60 Skittles per 2.17 oz. Bag</a:t>
            </a: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77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770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0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2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T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e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s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t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06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One Sample T-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828800"/>
            <a:ext cx="914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Test Statist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t* = x - 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3048120"/>
            <a:ext cx="15264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3352680"/>
            <a:ext cx="83808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s/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√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350532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2971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4114800"/>
            <a:ext cx="914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P-Val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2 * P(µ &gt; -.8828) = .38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182880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Degrees Freedo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Df = n-1 = 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33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-.88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T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e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s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t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s </a:t>
            </a: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(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C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o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n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.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1752480"/>
            <a:ext cx="91440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Conclu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We fail to reject the null hypothesis because our p-value is greater than </a:t>
            </a:r>
            <a:r>
              <a:rPr b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 = .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We have sufficient evidence that the mean number of Skittles per 2.17 oz. bag is 60 Skitt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C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o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n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f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i</a:t>
            </a: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d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e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n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e </a:t>
            </a: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L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e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v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e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l </a:t>
            </a: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(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9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5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%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523880"/>
            <a:ext cx="9144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Confidence Level = x ± t*(s/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√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n) = (58.113, 60.74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We are 95% Confident that the mean number of Skittles per 2.17 oz. bag is between 58.113 and 60.744 Skitt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724280" y="1600200"/>
            <a:ext cx="15264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1676520"/>
            <a:ext cx="15264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P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e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r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s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o</a:t>
            </a: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n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a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l </a:t>
            </a: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O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p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i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n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i</a:t>
            </a: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o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n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1905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981080"/>
            <a:ext cx="91440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-We felt as though it was very tedious to count the amount of Skittles in each of the 35 b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-It was time-consuming to travel to each of the 7 stores to obtain the required amount of s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-We agree with our T-Test results and feel as though where ever you choose to buy your Skittles from, you are getting a fair amount per bag for the pr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A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p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p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l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i</a:t>
            </a: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c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a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t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i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o</a:t>
            </a: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905120"/>
            <a:ext cx="91440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-Although Giant had the greatest average number of Skittles per bag, we feel as though it is unnecessary to go out of your way just to buy Skittles at Gi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-We feel as though Mars Inc. fairly manufactures and packages their Skittles ba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- 7-11 Skittles bags are packaged most fairly and have an average of 60.2 Skittles per ba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B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i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a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s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/</a:t>
            </a: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E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r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r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o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209680"/>
            <a:ext cx="9144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Incorrect Skittles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Mistake entering data into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Obtaining Skittles at various stores</a:t>
            </a:r>
            <a:r>
              <a:rPr b="1" lang="en-US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chose the first available b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Counting broken or deformed Skitt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14400" y="25146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How Many </a:t>
            </a: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S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k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i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t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l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e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s </a:t>
            </a: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Are In a 2.17 Ounce Bag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371600" y="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743200" y="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114800" y="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5486400" y="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6858000" y="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7772400" y="0"/>
            <a:ext cx="1371600" cy="102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8277120" y="990720"/>
          <a:ext cx="866880" cy="1143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277120" y="990720"/>
                    <a:ext cx="8668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8277120" y="2133720"/>
          <a:ext cx="866880" cy="1143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277120" y="2133720"/>
                    <a:ext cx="8668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8277120" y="3276720"/>
          <a:ext cx="866880" cy="1143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8277120" y="3276720"/>
                    <a:ext cx="8668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8277120" y="4419720"/>
          <a:ext cx="866880" cy="11430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8277120" y="4419720"/>
                    <a:ext cx="8668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0" y="990720"/>
          <a:ext cx="866880" cy="11430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0" y="990720"/>
                    <a:ext cx="8668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0" y="2133720"/>
          <a:ext cx="866880" cy="11430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0" y="2133720"/>
                    <a:ext cx="8668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0" y="3276720"/>
          <a:ext cx="866880" cy="11430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0" y="3276720"/>
                    <a:ext cx="8668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0" y="4419720"/>
          <a:ext cx="866880" cy="114300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0" y="4419720"/>
                    <a:ext cx="8668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" descr=""/>
          <p:cNvPicPr/>
          <p:nvPr/>
        </p:nvPicPr>
        <p:blipFill>
          <a:blip r:embed="rId24"/>
          <a:stretch/>
        </p:blipFill>
        <p:spPr>
          <a:xfrm>
            <a:off x="0" y="5829480"/>
            <a:ext cx="1371600" cy="1028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5"/>
          <a:stretch/>
        </p:blipFill>
        <p:spPr>
          <a:xfrm>
            <a:off x="1371600" y="5829480"/>
            <a:ext cx="1371600" cy="1028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6"/>
          <a:stretch/>
        </p:blipFill>
        <p:spPr>
          <a:xfrm>
            <a:off x="2743200" y="5829480"/>
            <a:ext cx="1371600" cy="10285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7"/>
          <a:stretch/>
        </p:blipFill>
        <p:spPr>
          <a:xfrm>
            <a:off x="4114800" y="5829480"/>
            <a:ext cx="1371600" cy="1028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8"/>
          <a:stretch/>
        </p:blipFill>
        <p:spPr>
          <a:xfrm>
            <a:off x="5486400" y="5829480"/>
            <a:ext cx="1371600" cy="10285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9"/>
          <a:stretch/>
        </p:blipFill>
        <p:spPr>
          <a:xfrm>
            <a:off x="6858000" y="5829480"/>
            <a:ext cx="1447920" cy="102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8305920" y="5562720"/>
          <a:ext cx="838080" cy="129528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8305920" y="5562720"/>
                    <a:ext cx="83808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0" y="5562720"/>
          <a:ext cx="866880" cy="114300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0" y="5562720"/>
                    <a:ext cx="8668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1295280" y="46483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By: Ryan Riling &amp; Tom Dough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H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i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s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t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o</a:t>
            </a: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r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600200"/>
            <a:ext cx="510552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Skittles production originated in Eng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First introduced to United States in 197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Owned by Mars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Skittles factories are located in U.S, Victoria, Australia, and New Zea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Advertising campaigns are associated with rainb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Taste the Rainbow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257800" y="1143000"/>
            <a:ext cx="3673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  <a:ea typeface="Tahoma"/>
              </a:rPr>
              <a:t>P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  <a:ea typeface="Tahoma"/>
              </a:rPr>
              <a:t>u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  <a:ea typeface="Tahoma"/>
              </a:rPr>
              <a:t>r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  <a:ea typeface="Tahoma"/>
              </a:rPr>
              <a:t>p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  <a:ea typeface="Tahoma"/>
              </a:rPr>
              <a:t>o</a:t>
            </a:r>
            <a:r>
              <a:rPr b="1" lang="en-US" sz="4800" spc="-1" strike="noStrike">
                <a:solidFill>
                  <a:srgbClr val="00ff00"/>
                </a:solidFill>
                <a:latin typeface="Tahoma"/>
                <a:ea typeface="Tahoma"/>
              </a:rPr>
              <a:t>s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  <a:ea typeface="Tahoma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133720"/>
            <a:ext cx="9144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  <a:ea typeface="Tahoma"/>
              </a:rPr>
              <a:t>-We wanted to determine whether or not Mars Inc. (producer of Skittles) was fairly filling their bags with the claimed amo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  <a:ea typeface="Tahoma"/>
              </a:rPr>
              <a:t>-We decided to purchase 35 standard sized bags of Skittles (2.17 ounce) and test to determine if Skittles consumers are getting their money’s wor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R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e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t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i</a:t>
            </a: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l 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S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t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o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r</a:t>
            </a: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e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828800"/>
            <a:ext cx="50292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-Acme</a:t>
            </a:r>
            <a:r>
              <a:rPr b="0" lang="en-US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Five 2.17 oz. B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-Genuardi’s</a:t>
            </a:r>
            <a:r>
              <a:rPr b="0" lang="en-US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Five 2.17 oz. B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-Giant</a:t>
            </a:r>
            <a:r>
              <a:rPr b="0" lang="en-US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Five 2.17 oz. B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-Redner’s</a:t>
            </a:r>
            <a:r>
              <a:rPr b="0" lang="en-US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Five 2.17 oz. B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-CVS</a:t>
            </a:r>
            <a:r>
              <a:rPr b="0" lang="en-US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Five 2.17 oz. B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-Wawa</a:t>
            </a:r>
            <a:r>
              <a:rPr b="0" lang="en-US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Five 2.17 oz. B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-7-11</a:t>
            </a:r>
            <a:r>
              <a:rPr b="0" lang="en-US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Five 2.17 oz. B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TOTAL = 35 B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208160" y="3017880"/>
            <a:ext cx="6729480" cy="457200"/>
            <a:chOff x="1208160" y="3017880"/>
            <a:chExt cx="6729480" cy="457200"/>
          </a:xfrm>
        </p:grpSpPr>
        <p:sp>
          <p:nvSpPr>
            <p:cNvPr id="99" name=""/>
            <p:cNvSpPr/>
            <p:nvPr/>
          </p:nvSpPr>
          <p:spPr>
            <a:xfrm>
              <a:off x="1208160" y="3017880"/>
              <a:ext cx="422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30440" y="3017880"/>
              <a:ext cx="5832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62800" y="3017880"/>
              <a:ext cx="474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1066680"/>
            <a:ext cx="5410080" cy="992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400800" y="2133720"/>
            <a:ext cx="2743200" cy="892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324480" y="3124080"/>
            <a:ext cx="2819520" cy="1860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3886200" y="1066680"/>
            <a:ext cx="2743200" cy="1235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4191120" y="2971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5867280" y="5029200"/>
            <a:ext cx="3094200" cy="1612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419720" y="4753080"/>
            <a:ext cx="152388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D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a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t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04920" y="1752480"/>
          <a:ext cx="8686800" cy="283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52480"/>
                    <a:ext cx="868680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G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r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a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p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h</a:t>
            </a: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0" y="762120"/>
          <a:ext cx="8915400" cy="539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8915400" cy="53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G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r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a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p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h</a:t>
            </a: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s 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(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C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o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n</a:t>
            </a: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t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.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600200"/>
            <a:ext cx="0" cy="3733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5334120"/>
            <a:ext cx="624852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52578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52578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52578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52578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52578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52578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52578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52578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52578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52578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9880" y="52578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14800" y="52578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52578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52578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52578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52578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52578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52578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52578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53080" y="52578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0" y="52578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36576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81080" y="3429000"/>
            <a:ext cx="0" cy="6094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3733920"/>
            <a:ext cx="9144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95480" y="3429000"/>
            <a:ext cx="0" cy="6094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81080" y="3429000"/>
            <a:ext cx="213372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1080" y="4038480"/>
            <a:ext cx="213372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3429000"/>
            <a:ext cx="0" cy="6094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36576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3733920"/>
            <a:ext cx="152388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5410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Tahoma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5410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Tahoma"/>
              </a:rPr>
              <a:t>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28800" y="5410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Tahoma"/>
              </a:rPr>
              <a:t>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38280" y="541008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Tahoma"/>
              </a:rPr>
              <a:t>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5410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Tahoma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57600" y="5410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Tahoma"/>
              </a:rPr>
              <a:t>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67080" y="54100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Tahoma"/>
              </a:rPr>
              <a:t>6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5410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Tahoma"/>
              </a:rPr>
              <a:t>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5410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Tahoma"/>
              </a:rPr>
              <a:t>6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5410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Tahoma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05720" y="5410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Tahoma"/>
              </a:rPr>
              <a:t>7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1295280"/>
            <a:ext cx="4800600" cy="15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Five Number 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ahoma"/>
                <a:ea typeface="Times New Roman"/>
              </a:rPr>
              <a:t>Minimum = 53                         Quartile 3 = 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ahoma"/>
                <a:ea typeface="Times New Roman"/>
              </a:rPr>
              <a:t>Quartile 1 = 56                        Maximum = 6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ahoma"/>
                <a:ea typeface="Times New Roman"/>
              </a:rPr>
              <a:t>Median = 5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5867280"/>
            <a:ext cx="624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ahoma"/>
              </a:rPr>
              <a:t>Number of Skitt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172200" y="3581280"/>
            <a:ext cx="2781360" cy="97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No Outliers!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S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t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e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m 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P</a:t>
            </a:r>
            <a:r>
              <a:rPr b="1" lang="en-US" sz="4800" spc="-1" strike="noStrike">
                <a:solidFill>
                  <a:srgbClr val="00ff00"/>
                </a:solidFill>
                <a:latin typeface="Tahoma"/>
              </a:rPr>
              <a:t>l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o</a:t>
            </a:r>
            <a:r>
              <a:rPr b="1" lang="en-US" sz="4800" spc="-1" strike="noStrike">
                <a:solidFill>
                  <a:srgbClr val="800080"/>
                </a:solidFill>
                <a:latin typeface="Tahoma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990720"/>
            <a:ext cx="59436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4  5  5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6  6  6  6  7  7  7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8  8  8  9  9  9  9  9 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  2  2  3  3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4  4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6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066680"/>
            <a:ext cx="0" cy="53341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0" y="1371600"/>
            <a:ext cx="4572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Shape = Roughly Sym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Center = 5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Spread = Minimum – 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                 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Maximum – 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11:36:22Z</dcterms:created>
  <dc:creator>Mobile Lab 2</dc:creator>
  <dc:description/>
  <dc:language>en-US</dc:language>
  <cp:lastModifiedBy> </cp:lastModifiedBy>
  <dcterms:modified xsi:type="dcterms:W3CDTF">2007-06-07T02:21:36Z</dcterms:modified>
  <cp:revision>21</cp:revision>
  <dc:subject/>
  <dc:title>PowerPoint Presentation</dc:title>
</cp:coreProperties>
</file>